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E20-8AEA-4DA5-B704-F0E6A6A3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A2B-7690-4653-984F-DF0FCCAD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0D4-D3B4-41E2-9EF3-3EE4AF33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731-E597-4372-8F73-C68CB51C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F29B-8C63-482E-ACD3-B361BD0D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5001-1DBC-4A19-8388-8E88F9EF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7B7F-EBEC-4DC4-8629-CF438B4C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4852-0F1F-4C13-B4F8-12449DF3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6207-C7A3-4FDD-AAAA-504D68E4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4505-D67B-4CCE-8E4B-0C1280E5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A1A0-AA49-43F1-B8A1-1BAF8A61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B55-11A8-4885-8978-5FEAE18B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EC68-14C7-48B0-9C05-C2F6768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E761-5914-4A54-ADE8-FCFFDB71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3075-3790-4406-B10E-B816FBA7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42AE-B806-4945-AFF7-293B7CBF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B58F-F6C3-446A-A8E2-6F715AB5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FBE-6B6B-485A-82D9-FE1F19A1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E04-C98E-496C-B322-55D15761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D22-9FCD-41BF-BE3A-6EBE43B9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088-0AE4-4E5E-ACCA-68F8C50E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EE0-680E-4220-9B79-36D5419A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CCF-330D-41FD-9FCE-1FD2385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ED3-7486-4A0C-B7B7-0EA7B704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7DB5-E4B4-44B6-95FA-41841EDC07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B6A9-2FF2-4FFE-8CFD-3C9128183A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Sir, We Would See Jesus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10, Lesson 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173-17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rk 15:12-3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BF30-0014-4280-BB1A-48EBA727284C}" type="slidenum">
              <a:t>1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Jesus Sentenced To Be Crucifie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ark 15:12-15; John 19:4-16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ate asks the crowd what they wanted him to do with Jes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say “Crucify Him, crucify Him!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ate answers “You crucify Him, for I find no fault in Him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Jews say “..He ought to die because He made Himself the Son of God.”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ate was even more afra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would not tell Pilate where he was from so he told Jesus that he had the power to release or crucify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961-B560-4088-B1AF-5876F1A50A83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Jesus Sentenced To Be Crucifie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ark 15:12-15; John 19:4-16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tells Pilate that he (Pilate) has no power except it be given him from abo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om then on Pilate sought to release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Jews: “If you let this Man go, you are not Caesars frie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ate brings Jesus out and says to them, “Behold your King!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cry out, “Away with Him! Crucify Him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ate delivers Jesus, after he had scourged Him, to be crucified; The soldiers lead Him aw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5D9-DCEE-4655-86E6-7284096FD72F}" type="slidenum">
              <a:t>3</a:t>
            </a:fld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The Crucifixion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Mk. 15:20-23; Mt. 27:31-34; Lk. 23:26-3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was too weak to carry the cross so the soldiers compelled Simon of Cyrene to carry it for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brought Him to the place Golgotha, that is, Place of a Sku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multitude followed, mourning and lamenting for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were also two criminals led with Him to be put to dea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B7D-57F6-4643-AD55-86558EE73285}" type="slidenum">
              <a:t>4</a:t>
            </a:fld>
          </a:p>
        </p:txBody>
      </p:sp>
    </p:spTree>
  </p:cSld>
  <p:transition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Jesus On The Cross</a:t>
            </a:r>
            <a:br>
              <a:rPr sz="28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k. 15:24-32; Mt. 27:35-44; Lk. 23:33-43; Jn. 19:18-27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 the soldiers Jesus said, “Father forgive them, for they do not know what they do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ing crucified with two thieves, Jesus was “numbered with the transgressors” (Isa. 53-1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oldiers mocked Jesus saying, “If You are the King of the Jews save Yourself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 inscription was placed over Him which read ‘THIS IS THE KING OF THE JEWS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chief priests and elders: “He saved others, Himself He cannot save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59F-E3E3-4A45-8905-B676A3571E63}" type="slidenum">
              <a:t>5</a:t>
            </a:fld>
          </a:p>
        </p:txBody>
      </p:sp>
    </p:spTree>
  </p:cSld>
  <p:transition>
    <p:cover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Jesus On The Cross</a:t>
            </a:r>
            <a:br>
              <a:rPr sz="28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k. 15:24-32; Mt. 27:35-44; Lk. 23:33-43; Jn. 19:18-27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en the two thieves, at first, reviled Jes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om the cross Jesus says to His mother, “Woman, behold your son,” meaning Joh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ter this, one of the thieves blasphemed Him, saying “If you are the Christ, save Yourself and us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other rebuked him and said to Jesus, “Lord remember me when You come into Your kingdom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replied, “Assuredly, I say to you, today you will be with Me in Paradise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C29-2C06-4A57-9467-DDC6EDEAF529}" type="slidenum">
              <a:t>6</a:t>
            </a:fld>
          </a:p>
        </p:txBody>
      </p:sp>
    </p:spTree>
  </p:cSld>
  <p:transition spd="med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03:52:10Z</dcterms:created>
  <dc:creator>billy lauderdale</dc:creator>
  <dc:description/>
  <dc:language>en-US</dc:language>
  <cp:lastModifiedBy>Frank D Vines</cp:lastModifiedBy>
  <dcterms:modified xsi:type="dcterms:W3CDTF">2006-09-05T04:25:45Z</dcterms:modified>
  <cp:revision>21</cp:revision>
  <dc:subject/>
  <dc:title>Sir, We Would See Jesus </dc:title>
</cp:coreProperties>
</file>